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AD3-0FDB-47F2-A74D-80C453E8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FF3-6F15-46E7-8E27-853F04FF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F18-4D55-4DF2-868A-EFF173A0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E01-CC81-4155-B90E-93A6F751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95C-5A52-465A-9730-9E20CC17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92B-997C-414A-AD75-24D2BA4B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7C1-C312-4FFB-9B48-AC0FA168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41D-B098-4CA0-BF39-E10B00D8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6DB-BE29-40A3-8FFF-8A090E86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415-2062-4EB5-AE5B-C5C2621B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567-DA7F-4E6F-AB1F-5314A04E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04A-9AB0-480F-AFBF-ADBFEEB8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6A4E-F9E5-4105-98A3-706EDCD8B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OBSERVATIONAL STUDI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62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Observational Study Desig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43000"/>
            <a:ext cx="84582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There are three general categories of observational desig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Basic Desig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Cohort, Case-Control, Cross-S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def6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Hybrid Designs: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Case-Cohort, Nested Case-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Incomplete Desig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Ecologic, Propor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10280" cy="487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914400" cy="711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84880" y="30492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933960" cy="160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6324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327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44760" y="91440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99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7162920" cy="358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429000" y="762120"/>
            <a:ext cx="22096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93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1511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2485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43000" y="2155680"/>
            <a:ext cx="67816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46:49Z</dcterms:modified>
  <cp:revision>105</cp:revision>
  <dc:subject/>
  <dc:title>The Art in the State of the Art</dc:title>
</cp:coreProperties>
</file>